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9C4-1B96-4971-8885-15011B87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D93-0A41-47EC-A6CB-135ACDDC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253-C61A-466E-ACDB-08A6889D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391-0D88-4CA5-B59A-33BF7570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D3FAF-CC26-402C-8F84-87FDFEEE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564A7-E3D3-4583-808E-4DFE57A0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AE9DA-D984-4571-A482-3D21CA2D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6B0F4-5B2A-438E-ACE8-4746489D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2B1E5-D0E6-4597-AD67-D2FCAA86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F7659-500C-4B2C-B201-4161F72F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1B68F-840F-4AEC-B215-AD055AC0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C5C-07F1-4F1B-B519-E8FC6A1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136CA-CFD9-4647-B15D-71F929F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B1194-103B-424A-A379-BD2D03DE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A2A5C-B20B-4F4D-96EF-534E36B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5D13A-F76D-48F5-986E-6A7BE25F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B953-F857-4C11-849C-E422FC51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5E2-755C-408E-8C3B-C6A7EC41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332-F9FC-4EFC-B246-892E7CE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500-AF82-42BB-8CF6-6F0157CF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C98-F5E2-439C-A450-97F07DC7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BDC-E068-4C26-AC26-5A74E05C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9FD-D516-45A6-8BF0-CE2F0C99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4FE-E440-4D8A-8B20-72E9635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8F7-4784-420E-9A3B-C53CA34967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A28E-3F9D-48A6-A39C-C861468DDE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95480" y="1447920"/>
            <a:ext cx="3200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81080" y="3886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VALUARE INIŢIAL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PUNCTELE CARDINAL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00" y="76140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. Stabiliți punctele cardinale pe harta de mai j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e3e3ff"/>
                </a:solidFill>
                <a:latin typeface="Arial"/>
              </a:rPr>
              <a:t>ȘEZARE GEOGRAFIC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abiliți emisferele în care se situează continentul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recizați principalele linii geografice care traversează continentul asia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VECINII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abiliți pe harta de mai jos, vecini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tinentului asi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7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RELIEFUL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iviți harta de mai jos și stabiliți principalele unități de relief din Asia în funcție de culorile existente pe hart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STATELE DIN AS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Urmăriți harta de mai jos și precizaţ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va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tate de pe continentul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19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POPULA</a:t>
            </a: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Ț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electează imagini ce reprezintă populația asiatic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904760" cy="1714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53080" y="3733920"/>
            <a:ext cx="1952640" cy="1630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886200" y="1371600"/>
            <a:ext cx="1828800" cy="1736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505320" y="350532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85800" y="1371600"/>
            <a:ext cx="24382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3e3ff"/>
                </a:solidFill>
                <a:latin typeface="Arial"/>
              </a:rPr>
              <a:t>TURISMUL DIN AS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Bifați imaginile care ilustrează obiective turistice din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590920" cy="1773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6477120" y="990720"/>
            <a:ext cx="2492280" cy="1676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Indonezia"/>
          <p:cNvPicPr/>
          <p:nvPr/>
        </p:nvPicPr>
        <p:blipFill>
          <a:blip r:embed="rId3"/>
          <a:stretch/>
        </p:blipFill>
        <p:spPr>
          <a:xfrm>
            <a:off x="380880" y="2895480"/>
            <a:ext cx="2590920" cy="1731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Orasului Interzis,Beijing - China"/>
          <p:cNvPicPr/>
          <p:nvPr/>
        </p:nvPicPr>
        <p:blipFill>
          <a:blip r:embed="rId4"/>
          <a:stretch/>
        </p:blipFill>
        <p:spPr>
          <a:xfrm>
            <a:off x="380880" y="48006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Kyoto"/>
          <p:cNvPicPr/>
          <p:nvPr/>
        </p:nvPicPr>
        <p:blipFill>
          <a:blip r:embed="rId5"/>
          <a:stretch/>
        </p:blipFill>
        <p:spPr>
          <a:xfrm>
            <a:off x="6477120" y="2819520"/>
            <a:ext cx="2473200" cy="1752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2397240" cy="1716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3505320" y="9907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3505320" y="2819520"/>
            <a:ext cx="2438280" cy="1676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3962520" y="457200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3e3ff"/>
                </a:solidFill>
                <a:latin typeface="Arial"/>
              </a:rPr>
              <a:t>BRAVO 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101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45:31Z</dcterms:created>
  <dc:creator>Scoala 2</dc:creator>
  <dc:description/>
  <dc:language>en-US</dc:language>
  <cp:lastModifiedBy>curs</cp:lastModifiedBy>
  <dcterms:modified xsi:type="dcterms:W3CDTF">2010-12-03T13:50:06Z</dcterms:modified>
  <cp:revision>9</cp:revision>
  <dc:subject/>
  <dc:title>Slide 1</dc:title>
</cp:coreProperties>
</file>